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5.wmf" ContentType="image/x-wmf"/>
  <Override PartName="/ppt/media/image14.jpeg" ContentType="image/jpeg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9D1F-54EF-4DA1-9CEF-8E92328A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E7E8-689E-4B6F-8CA7-9081EA3E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BC7D-9D49-45B3-8624-55031132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6596-9253-4FB3-AFA6-46F79C71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01B6-4B55-46B1-A161-61CE0529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8D48-3FC7-493E-ADB8-20BABC0F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0A97-AED2-4263-B478-F5B5A374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F90E-FD7E-4905-8307-7B483307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01FC-59F1-4B65-9BDE-20EEF575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5BAB-0500-414D-A814-3C928451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1CDF-4D77-4849-8EE6-1A0178C2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0BCD-1B61-4A68-B2ED-CBCC3214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0ECA-77CC-4373-BA85-0ED54DDEC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Maria\Local Settings\Temporary Internet Files\Content.IE5\9TLLH0F8\MCj04323870000[1].wmf"/>
          <p:cNvPicPr/>
          <p:nvPr/>
        </p:nvPicPr>
        <p:blipFill>
          <a:blip r:embed="rId1"/>
          <a:stretch/>
        </p:blipFill>
        <p:spPr>
          <a:xfrm>
            <a:off x="0" y="1371600"/>
            <a:ext cx="4495680" cy="5218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eason of Adv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4" name="MSBD00309_0000[1].mi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29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does the fourth candle represent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resent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nt from God through His son, Jesus Chri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28576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the white candle in the middle represent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rist candle reminds us that Jesus is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ght of the worl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come into our darkness to enlighten us and give us the life of God which we share with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5257800" y="3657600"/>
            <a:ext cx="2155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Maria\Local Settings\Temporary Internet Files\Content.IE5\BZ7BMXGQ\MCj04354240000[1].wmf"/>
          <p:cNvPicPr/>
          <p:nvPr/>
        </p:nvPicPr>
        <p:blipFill>
          <a:blip r:embed="rId1"/>
          <a:stretch/>
        </p:blipFill>
        <p:spPr>
          <a:xfrm>
            <a:off x="3505320" y="1504800"/>
            <a:ext cx="5333760" cy="53532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ghting the cand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ek 1- 1 purple cand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ek 2- 2 purple cand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ek 3 – 2 purple candles, one pink cand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ek 4- all cand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v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eginning of the church y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pare for the birth of Jes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ime for wa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ebrate by helping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to the nee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C:\Documents and Settings\Maria\Local Settings\Temporary Internet Files\Content.IE5\UUHM9O0I\MCj03635620000[1].wmf"/>
          <p:cNvPicPr/>
          <p:nvPr/>
        </p:nvPicPr>
        <p:blipFill>
          <a:blip r:embed="rId1"/>
          <a:stretch/>
        </p:blipFill>
        <p:spPr>
          <a:xfrm>
            <a:off x="5334120" y="2971800"/>
            <a:ext cx="3198600" cy="2790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Documents and Settings\Maria\Local Settings\Temporary Internet Files\Content.IE5\L7L56DM4\MCBD08206_0000[1].wmf"/>
          <p:cNvPicPr/>
          <p:nvPr/>
        </p:nvPicPr>
        <p:blipFill>
          <a:blip r:embed="rId2"/>
          <a:stretch/>
        </p:blipFill>
        <p:spPr>
          <a:xfrm>
            <a:off x="1219320" y="4572000"/>
            <a:ext cx="275904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pirit of Christ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pirit of giv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what you should g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you should give to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you should do for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C:\Documents and Settings\Maria\Local Settings\Temporary Internet Files\Content.IE5\MP9W11V2\MPj04277410000[1].jpg"/>
          <p:cNvPicPr/>
          <p:nvPr/>
        </p:nvPicPr>
        <p:blipFill>
          <a:blip r:embed="rId1"/>
          <a:stretch/>
        </p:blipFill>
        <p:spPr>
          <a:xfrm>
            <a:off x="6384960" y="2438280"/>
            <a:ext cx="2560680" cy="3200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Documents and Settings\Maria\Local Settings\Temporary Internet Files\Content.IE5\KDJQJ1NL\MPj04309250000[1].jpg"/>
          <p:cNvPicPr/>
          <p:nvPr/>
        </p:nvPicPr>
        <p:blipFill>
          <a:blip r:embed="rId2"/>
          <a:stretch/>
        </p:blipFill>
        <p:spPr>
          <a:xfrm>
            <a:off x="0" y="4495680"/>
            <a:ext cx="3117960" cy="2287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Documents and Settings\Maria\Local Settings\Temporary Internet Files\Content.IE5\QGD8MG63\MPj04277390000[1].jpg"/>
          <p:cNvPicPr/>
          <p:nvPr/>
        </p:nvPicPr>
        <p:blipFill>
          <a:blip r:embed="rId3"/>
          <a:stretch/>
        </p:blipFill>
        <p:spPr>
          <a:xfrm>
            <a:off x="3238560" y="4419720"/>
            <a:ext cx="308592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v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ppens in early win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ing for life, we wait for the light of the wor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rple is the color of Adv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te is the color of Christ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:\Program Files\Microsoft Office\MEDIA\CAGCAT10\j0299587.wmf"/>
          <p:cNvPicPr/>
          <p:nvPr/>
        </p:nvPicPr>
        <p:blipFill>
          <a:blip r:embed="rId1"/>
          <a:stretch/>
        </p:blipFill>
        <p:spPr>
          <a:xfrm>
            <a:off x="6400800" y="304920"/>
            <a:ext cx="182736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the circle of the Advent wreath represent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ircle has no beginning or an en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ircle of the Advent wreath represents that God is so great that God never had a beginning and will never have an en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reath is a circle, causing us to remember the eternity of God's love for us and for all huma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6286680" y="4105440"/>
            <a:ext cx="285732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the evergreens tell us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greens stay green all yea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vergreens tell us that God never chang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decked with green boughs, causing us to remember the newness of life we have in Christ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867280" y="4091040"/>
            <a:ext cx="28591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oes the first candle represen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resents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p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people of Israel that someone would come save them and the period of waiting for the birth of Chris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candle reminds us of the prophets'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p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God's salvation to come, as Isaiah prophes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5715000" y="4343400"/>
            <a:ext cx="2203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does the second candle represen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resents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a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t God has given through His son Jesus Christ and the preparation for the Christ Chi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638680" y="2895480"/>
            <a:ext cx="297180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does the third candle represen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resents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o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of sharing Chri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ird candle reminds us of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o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shepherds as they heard the good news of Jesus' arriv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4952880" y="2819520"/>
            <a:ext cx="3276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21:19:12Z</dcterms:created>
  <dc:creator>Maria Marrocco</dc:creator>
  <dc:description/>
  <dc:language>en-US</dc:language>
  <cp:lastModifiedBy>Maria</cp:lastModifiedBy>
  <dcterms:modified xsi:type="dcterms:W3CDTF">2013-12-01T15:43:07Z</dcterms:modified>
  <cp:revision>11</cp:revision>
  <dc:subject/>
  <dc:title>The season of Advent</dc:title>
</cp:coreProperties>
</file>